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219-C07B-4822-AE27-618735A7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B16-EB5D-4BEA-8F17-D7ADB307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293-8115-4C56-8545-DAC8507F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DB2-EF0F-45A2-A442-62F24447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04B-D333-4A94-8AF2-8DC0874B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762-DB21-4F06-94FD-1F609C1F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38B-E3C5-42BE-9175-22A20931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B59-EC3D-45E1-A746-0B27209F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CB5-65F7-4622-8C99-76B6676B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30E-133C-448D-BD31-3DDCBC86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31C-2D23-4B2C-9C30-DCC4625D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CDD-F5CB-4E33-A0A3-9C636C4C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96DA-8C48-494C-BF00-8856D3C67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pekarj</cp:lastModifiedBy>
  <dcterms:modified xsi:type="dcterms:W3CDTF">2009-08-14T05:40:16Z</dcterms:modified>
  <cp:revision>2</cp:revision>
  <dc:subject/>
  <dc:title>Poznámka: obrázek s logy je třeba umístit do záhlaví každého slidu</dc:title>
</cp:coreProperties>
</file>